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570-ACAE-4ABE-B741-43A73105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C4F7-A34B-45AD-9EEE-6EF7015F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1D8-9B0F-42DD-9833-AB8DEA88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703-EBBC-47F0-8A03-2214884C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9418-4594-4F7D-B30A-2AA9D8F8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CCC-443D-4BA2-AD2D-0D330D60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B37-420E-49CA-B9E0-EB9AE572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AFB-C56C-4014-B202-EC574C97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4CE-537A-4C74-AC53-7E7F9852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04A-78E7-4CF4-A1A3-CC20BBDD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4E7-F97E-4BDF-AC2F-A932BE2D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823-0946-420B-8CBE-1D76D78E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5BEF-58B1-4F62-A730-6FF4215A1F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Int 1/Int 2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kills and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ess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dnesday 9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Dec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413000"/>
            <a:ext cx="84582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Homework – preparation for part 2 of your N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udy everything that we have looked at on model performer and stages of learning.  Prepare 2 essay responses on all you know about bo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art 2 of NAB – Wednesday 16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December period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2-08T15:58:37Z</dcterms:modified>
  <cp:revision>31</cp:revision>
  <dc:subject/>
  <dc:title>Intermediate PE</dc:title>
</cp:coreProperties>
</file>